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5A0-6DFF-40EA-AAFA-044EA274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7BC-30CD-4D10-91FF-28E8954D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84B-5204-433F-8B07-507020A2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ACD-C9AE-43BB-92D8-A613C151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B1AD-BD23-4EA0-8D1D-DFD09DF7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BCAA-46F3-4336-94E1-FBE9469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752-7D0B-4110-B068-75456AAE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A0C7-1263-450B-9616-FAB38CF8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625B-CD2B-4C0A-8D45-F6854EAB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7E35-95CA-4DA1-AF67-6F75B65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960F-1E89-457F-8209-BE8BE381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DDE-2972-4B30-991C-604DE35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D8A-BD42-4694-A416-94577CB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2D9D-2CD2-4424-AD42-2B56BA8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83B2-8461-48E1-932A-2350B553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DF71-6A43-43BF-BA4E-9C972214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2380-E0B0-4E14-AF69-77079D5B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48DD-E4E4-4E25-8EDA-0DB071A7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4E12-6A03-421B-9144-7EA84B96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B672-289D-4E03-BDE8-C463628E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5EF95-CADE-44E6-B52D-8B427D8A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EB77-44B7-4EE1-8634-659DF589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C9F-40CB-4C3D-8172-D2D027A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ECFA-8203-468F-956E-195355EA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C42D-FEE3-42ED-B4DA-14AB21B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CBF9-EA3F-41E5-8C74-9B89C65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C825-75E4-4329-BC25-C24F739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896A-69F2-435E-A0E2-56CE4DDE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97F3-9B93-402F-9E5E-EF61341D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7F03-FBC2-4C2C-9291-3190D71E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AD0E-681B-4121-A0D1-90B9F70C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0D06-7365-4A5C-A6D6-D45AC0B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095F-2810-4A11-B1F4-AD015AFB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73C-720C-43F7-88BE-2C7744F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8467-760A-4D66-B2FA-001E49E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482F-BA8F-40DF-8648-163936BA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6866-5A4D-47A0-B070-3B6A6FF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8233-F502-4EFD-8780-74445F70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ADDF-5D04-462A-9039-DF3D146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B431-C3EF-4676-B061-AA45D24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7033-5DEF-4897-821D-4B9B389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9CC4-5F45-4AE3-9BC4-E5D07B79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CEE8-99CC-46D9-B2A3-1C8329C0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3054-9F6B-4D63-BE57-F19C0E20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C3F-75F1-4DE2-9366-D7B58DBD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61A3-65B1-4AA6-8059-1B7F7498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F3161-A060-4E14-A66C-9365AB34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584E-B561-4E32-916E-1F7DCBE6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6B4E-90C6-4E19-9570-24280724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0B0FE-A07D-437C-BC51-44983F50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8CE3-7281-431B-AACB-10FED13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1D1B-43F3-4EB0-86FA-5A351B1B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CE92-D501-4DA9-9379-28191AA9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4C6DF-2D48-401E-B9E0-815F4CED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38AD-EE04-4711-9CD4-16534B9C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6F9-D0B3-4FF2-8DAF-36B57CC4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43D6C-6E1E-4D8D-BAE7-AF046C71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99994-FDAB-46A0-8712-E3DA2843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BD80-18C6-43F3-A805-8065FB29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8BBF-C408-45CC-B091-31D5FA5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4701-39FD-4E06-BF7E-9224FE28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AAD2-18E6-438B-873F-71B30D90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F3CF3-1EB6-43EF-928C-DEDFC8BB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7AC4-0B9E-4085-87DB-F07CFA2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E186A-995D-4236-AC8B-9186C260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D8512-5FE1-4725-B058-92075379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30A-3ECF-46C4-832A-53B5F6F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3B613-841F-426E-A26E-F8719749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E63F2-1746-40D2-AC90-BE2B7D35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0BB6-AAC7-44F4-B5A8-773BCB34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FEDF-3595-456D-9D84-AAAB6163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95356-EB99-46B7-8022-6CB3F4F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7791-F982-4C56-ACEE-3DC060F2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4978-EF60-4E87-A0EE-8B75785A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F53B-D810-4637-A601-E22FC4B9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6088F-4A4D-4DD9-A9AE-1554B6C7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3D5E6-6EFC-4A31-AA1A-8F0E2A7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5A7-1E85-4D40-A780-78E6AB6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EF95-D6B3-432B-A6B9-61BBF5DA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710E1-524E-48B6-A8A1-8C07273E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68975-9ABE-409B-8461-FB939E80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05EB-C083-4D40-9F61-31DF6F49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430A-C7C3-424D-B161-E0450298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EB12E-5E79-4333-9BBD-0958B3E0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49643-E254-4D85-B216-9CE4E03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E97E-BB45-45D9-8B4B-6D15F697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87785-D3B9-47DE-8DF0-5850DA9E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B08FF-AD37-493B-87DB-7EDFB4F8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91B-FA80-4AA8-B232-A5A6F613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52DED-3FB2-4AED-8107-075F234C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8427F-3DDA-48FB-912A-CD8CE26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48D35-D460-401D-ADC2-62C94AF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5E2BA-3097-4662-BAA5-410D373D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C65CB-7589-499A-A2C6-F1B2B4D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F19DC-29B3-4260-8E1F-23048A95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51FC-8254-4CA8-8856-3E04138E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37B7-BA08-4AB7-BBE5-596B7EBBC6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4013-2B2F-40C5-9BF2-6FE1405913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6BE8-D159-40F2-91FB-C05B35044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32A1-10BE-4031-8524-C530FE9D98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CD1-B88C-4707-A10B-C73D25AD5E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413D-3E6E-436F-8353-386C9AEF63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E0BD-485E-4591-9C1F-4785851B38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811A-865E-4A3C-8017-5B6F39B475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youtube.com/watch?v=DjcztiNGg_8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2mzDwgyk6Q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ormation of Compou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Answers to the notes outl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will be highlighted in blu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are the chemical properties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ter is a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tabl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ound that doesn’t break down under normal conditions and doesn’t react with many other substanc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acts as a medium for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reaction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occur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important during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hotosynthes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-360" y="148104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Hydro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ightest and most abundant element in the univer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odorless, tasteless, and color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ive element, so rarely found as a free el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urns into a liquid at -25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Does not conduct electric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055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ater is a stable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mpound that doesn’t break down under normal conditions and doesn’t react with many other substanc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t acts as a medium for chemical reactions to occur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t is important during photosynthes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5760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Combustion of hydrogen and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you make any conclusions about compounds and the elements that make them up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he physical and chemical properties of the atoms that make up compounds are very different from the compounds they crea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lements to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reac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atoms of the elements must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ollid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the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valence electro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colliding atoms that interact to form comp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member from chapter 3 that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roperti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elements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repea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ecause the number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valence electron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eat in each grou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alence electrons determines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propertie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an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286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are noble gases so unreactive and so stabl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noble gas (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except for Heli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octet rul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s that atoms can becom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y having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electrons in their outer energy lev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ments become more stable by achieving a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 noble gas configu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y do this by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gaining, losing or sharing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ctrons with other element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valence electrons do sodium and chlorine ha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dium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chlorine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can both sodium and chlorine achieve a full oct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ence electron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odiu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s transferred to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lorin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1765800" y="5105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        +         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2"/>
          <p:cNvSpPr/>
          <p:nvPr/>
        </p:nvSpPr>
        <p:spPr>
          <a:xfrm>
            <a:off x="38098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534200" y="51055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Na ]     +     [  Cl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4"/>
          <p:cNvSpPr/>
          <p:nvPr/>
        </p:nvSpPr>
        <p:spPr>
          <a:xfrm>
            <a:off x="65530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7396560" y="5105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 flipH="1">
            <a:off x="622764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"/>
          <p:cNvSpPr/>
          <p:nvPr/>
        </p:nvSpPr>
        <p:spPr>
          <a:xfrm flipH="1">
            <a:off x="3360600" y="521028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0"/>
          <p:cNvSpPr/>
          <p:nvPr/>
        </p:nvSpPr>
        <p:spPr>
          <a:xfrm flipH="1">
            <a:off x="6324480" y="5305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1"/>
          <p:cNvSpPr/>
          <p:nvPr/>
        </p:nvSpPr>
        <p:spPr>
          <a:xfrm flipH="1">
            <a:off x="3700440" y="5229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2"/>
          <p:cNvSpPr/>
          <p:nvPr/>
        </p:nvSpPr>
        <p:spPr>
          <a:xfrm flipH="1">
            <a:off x="3624120" y="5073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 flipH="1">
            <a:off x="3467160" y="5386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4"/>
          <p:cNvSpPr/>
          <p:nvPr/>
        </p:nvSpPr>
        <p:spPr>
          <a:xfrm flipH="1">
            <a:off x="3504600" y="507204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5"/>
          <p:cNvSpPr/>
          <p:nvPr/>
        </p:nvSpPr>
        <p:spPr>
          <a:xfrm flipH="1">
            <a:off x="5992200" y="5275440"/>
            <a:ext cx="7596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6"/>
          <p:cNvSpPr/>
          <p:nvPr/>
        </p:nvSpPr>
        <p:spPr>
          <a:xfrm flipH="1">
            <a:off x="59878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7"/>
          <p:cNvSpPr/>
          <p:nvPr/>
        </p:nvSpPr>
        <p:spPr>
          <a:xfrm flipH="1">
            <a:off x="3601440" y="539748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8"/>
          <p:cNvSpPr/>
          <p:nvPr/>
        </p:nvSpPr>
        <p:spPr>
          <a:xfrm flipH="1">
            <a:off x="6095880" y="5397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9"/>
          <p:cNvSpPr/>
          <p:nvPr/>
        </p:nvSpPr>
        <p:spPr>
          <a:xfrm flipH="1">
            <a:off x="63244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0"/>
          <p:cNvSpPr/>
          <p:nvPr/>
        </p:nvSpPr>
        <p:spPr>
          <a:xfrm flipH="1">
            <a:off x="609912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21"/>
          <p:cNvSpPr/>
          <p:nvPr/>
        </p:nvSpPr>
        <p:spPr>
          <a:xfrm flipH="1">
            <a:off x="3360600" y="5310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2"/>
          <p:cNvSpPr/>
          <p:nvPr/>
        </p:nvSpPr>
        <p:spPr>
          <a:xfrm flipH="1">
            <a:off x="6247800" y="538632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3"/>
          <p:cNvSpPr/>
          <p:nvPr/>
        </p:nvSpPr>
        <p:spPr>
          <a:xfrm flipH="1">
            <a:off x="2209680" y="5251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5046840" y="4944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6404400" y="48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3120" y="1371240"/>
            <a:ext cx="884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sodium transfers its one valence electron to chlorine both atoms becom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harg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articles called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tals (like sodium)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lose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posi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s (like chlorine)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nega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n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strong attractive force between ions of opposite charge creates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 bo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ompound that is composed of ions is called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</a:t>
            </a: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ompou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0" y="1339920"/>
            <a:ext cx="41911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very + sodium atom attracts every – chlorine atom and vice vers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ions organize themselves into a definit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ub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shaped arrangement called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rystal is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regular, repeating arrangement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 atoms, ions, or molecul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rcRect l="3388" t="9306" r="4396" b="0"/>
          <a:stretch/>
        </p:blipFill>
        <p:spPr>
          <a:xfrm>
            <a:off x="3505320" y="5562720"/>
            <a:ext cx="2546280" cy="11318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2"/>
          <p:cNvSpPr/>
          <p:nvPr/>
        </p:nvSpPr>
        <p:spPr>
          <a:xfrm>
            <a:off x="5257800" y="1339920"/>
            <a:ext cx="3713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formul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a compound tells what elements make up the compound and how many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tom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each element are present in one unit of the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chloride = 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atom and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lorine atom make up one unit of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atoms collide with enough energy to react, but neither attracts electrons strongly enough to take electrons from the other atom, the atoms combine by sharing valence electr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lectrons can only be shared to form molecules whe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2 nonmetals collid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: Compounds cannot be formed from two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metal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!!!!!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attraction of 2 atoms for a shared pair of electrons is called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bon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compound whose atoms are held together by covalent bonds is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compound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also called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ar compounds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e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is an uncharged group of 2 or more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non-metal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atoms held together by covalent bond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Single, double and triple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valent bonds are possible when 1, 2 or 3 pairs of electrons are share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371520" y="274680"/>
            <a:ext cx="84009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odium and chlorine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found in large, solid, underground deposits and dissolved in the ocea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enhance food flavo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melt ice on roadway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-36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ell-organized, tightly bound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rm crystal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ard, rough, and brittl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igh melting poi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olubl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nduct electricity when dissolved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ny compound that conducts electricity when melted or dissolved in water is an electrolyt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10552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Covalent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ttractive forces between molecules are wea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forces between particles that make up a substance are called interparticle forc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Liquids or gases at room tempera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conduct electric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dissolv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3712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phys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ite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 crystalline, soli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 room temperatur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britt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lts at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800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dissolves easily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ly conducts electricity i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aqueou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(dissolved in water) or when melte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SzPct val="125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chem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t does not react readily with other substance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(it is stable or unreactiv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20840" y="128520"/>
            <a:ext cx="84312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4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339040" cy="151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7280" y="152388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Sodi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hiny, silvery-white, soft, metallic soli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lts at 98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tored in oil because it reacts with oxygen and water vapor in ai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of the common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lways found combined with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08040" y="152388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hlor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lic pale green, poisonous ga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Kills living cel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d as a disinfecta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denses into a liquid at -34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as industrial impor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4114800" y="621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Reaction of Sodium and 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rbon and two oxygen a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the atm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your bloodstream as a waste product of cellular respira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used by plants to make glucose (photosynthesi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lifeadrift.info/media/2316/photosynthesis_equation.jpg"/>
          <p:cNvPicPr/>
          <p:nvPr/>
        </p:nvPicPr>
        <p:blipFill>
          <a:blip r:embed="rId2"/>
          <a:stretch/>
        </p:blipFill>
        <p:spPr>
          <a:xfrm>
            <a:off x="4313160" y="5359320"/>
            <a:ext cx="40687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76680" y="144792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phys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a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olorless, odorle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nd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asteless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-8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gas changes directly to a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white solid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without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irst becoming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liquid (dry ice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soluble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, but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weak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or of electric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chem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relatively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ta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us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fire extinguisher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cause it does not support burn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involv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photosynthesi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64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colorless, odorless, and taste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xygen supports bur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comes a liquid when cooled to -18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re reactive than carbon and combines with many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st abundant element in the Earth’s cru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6000" y="129528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arb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 and unreactive at room tempera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s with other elements at high temperatu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rbon burns easily and is a good source of he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 a huge variety of compounds (organic chemistry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2280" y="148104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two hydrogen atoms and one oxygen at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pproximately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Earth’s surfac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bou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the mass of the average human bod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chemistry water dissolves chemicals so that they can interact with other chemicals to create chemical reac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physical properties of wat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the only 1 of the 3 compounds that occurs in Earth’s environment in all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3 states of mat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turns into a gas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nd turns into a solid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0°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re water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does no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 electricity as a solid, liquid, or a 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called th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universal solven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ecause it is good at dissolving other substanc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important in transport of material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56:50Z</dcterms:created>
  <dc:creator>udsd</dc:creator>
  <dc:description/>
  <dc:language>en-US</dc:language>
  <cp:lastModifiedBy>Dawn</cp:lastModifiedBy>
  <dcterms:modified xsi:type="dcterms:W3CDTF">2013-01-09T01:31:42Z</dcterms:modified>
  <cp:revision>57</cp:revision>
  <dc:subject/>
  <dc:title>Chapter 4</dc:title>
</cp:coreProperties>
</file>